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4.png" ContentType="image/pn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2.png" ContentType="image/png"/>
  <Override PartName="/ppt/media/image1.jpeg" ContentType="image/jpeg"/>
  <Override PartName="/ppt/media/image13.jpeg" ContentType="image/jpeg"/>
  <Override PartName="/ppt/media/image40.jpeg" ContentType="image/jpeg"/>
  <Override PartName="/ppt/media/image34.png" ContentType="image/png"/>
  <Override PartName="/ppt/media/image5.jpeg" ContentType="image/jpeg"/>
  <Override PartName="/ppt/media/image35.png" ContentType="image/png"/>
  <Override PartName="/ppt/media/image43.jpeg" ContentType="image/jpeg"/>
  <Override PartName="/ppt/media/image8.png" ContentType="image/png"/>
  <Override PartName="/ppt/media/image37.png" ContentType="image/png"/>
  <Override PartName="/ppt/media/image20.jpeg" ContentType="image/jpeg"/>
  <Override PartName="/ppt/media/image41.png" ContentType="image/png"/>
  <Override PartName="/ppt/media/image22.jpeg" ContentType="image/jpeg"/>
  <Override PartName="/ppt/media/image39.png" ContentType="image/png"/>
  <Override PartName="/ppt/media/image6.png" ContentType="image/png"/>
  <Override PartName="/ppt/media/image36.png" ContentType="image/png"/>
  <Override PartName="/ppt/media/image38.jpeg" ContentType="image/jpeg"/>
  <Override PartName="/ppt/media/image7.jpeg" ContentType="image/jpeg"/>
  <Override PartName="/ppt/media/image28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892F-D5EF-422F-BE17-CC3A16FD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0A09-4F9F-42E2-B84A-FF8EADC9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7B1F-9632-40AF-BD0B-F55B18EA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2696-E62A-4D8A-931E-453723A0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A672-8952-4CC3-AED4-383E630E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BCB1-65CD-4F34-9E8C-FF25D376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4291-ADDD-4648-B2F8-1D9CD1F5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0EAC-B4B2-4D5F-903D-AB764FBA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BBE5-F40A-40EA-8518-0E435C85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0C06-1DB7-43F3-99CC-E9F4B088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FD9B-5445-4CD5-8028-4906B114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5A25-2967-4CE5-A893-F5788EBB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F34C-DA49-418E-BAE9-ED25A78A6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anabi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.pk/imgres?imgurl=http://www.sacredsites.com/middle_east/saudi_arabia/images/the-kaba-02-500.jpg&amp;imgrefurl=http://www.sacredsites.com/middle_east/saudi_arabia/mecca.html&amp;h=375&amp;w=500&amp;sz=97&amp;hl=en&amp;start=7&amp;um=1&amp;tbnid=Hxx9GdLD0PphPM:&amp;tbnh=98&amp;tbnw=130&amp;prev=/images%3Fq%3Dmecca%2Bmosque%26um%3D1%26hl%3Den%26safe%3Doff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wmf"/><Relationship Id="rId3" Type="http://schemas.openxmlformats.org/officeDocument/2006/relationships/hyperlink" Target="http://images.google.com.pk/imgres?imgurl=http://pakdeen.com/albums/album01/abo.sized.jpg&amp;imgrefurl=http://groups.msn.com/Islam4All/beautyofmosque.msnw&amp;h=450&amp;w=600&amp;sz=36&amp;hl=en&amp;start=42&amp;um=1&amp;tbnid=_Kbzcbt_cv_HVM:&amp;tbnh=101&amp;tbnw=135&amp;prev=/images%3Fq%3Dbeautiful%2Bmosque%2B%26start%3D36%26ndsp%3D18%26um%3D1%26hl%3Den%26safe%3Doff%26sa%3DN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images.google.com.pk/imgres?imgurl=http://farm2.static.flickr.com/1178/538700043_bdfc60cc68.jpg&amp;imgrefurl=http://lifejourney09.blogspot.com/&amp;h=375&amp;w=500&amp;sz=115&amp;hl=en&amp;start=40&amp;um=1&amp;tbnid=nwKSy9iDW9GPmM:&amp;tbnh=98&amp;tbnw=130&amp;prev=/images%3Fq%3Dbeautiful%2Bmosque%2B%26start%3D36%26ndsp%3D18%26um%3D1%26hl%3Den%26safe%3Doff%26sa%3DN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hyperlink" Target="http://images.google.com.pk/imgres?imgurl=http://www.visitmostar.net/res/Mosques/karadjozbeg.png&amp;imgrefurl=http://www.visitmostar.net/Mosques.htm&amp;h=482&amp;w=364&amp;sz=343&amp;hl=en&amp;start=54&amp;um=1&amp;tbnid=w4TJPQGyLsQkzM:&amp;tbnh=129&amp;tbnw=97&amp;prev=/images%3Fq%3Dbeautiful%2Bmosque%2B%26start%3D36%26ndsp%3D18%26um%3D1%26hl%3Den%26safe%3Doff%26sa%3DN" TargetMode="External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.wmf"/><Relationship Id="rId3" Type="http://schemas.openxmlformats.org/officeDocument/2006/relationships/hyperlink" Target="http://images.google.com.pk/imgres?imgurl=http://k53.pbase.com/g6/00/599200/2/73240320.8A9SJGHw.jpg&amp;imgrefurl=http://www.pbase.com/elias2033uk/image/73240320&amp;h=600&amp;w=800&amp;sz=181&amp;hl=en&amp;start=55&amp;um=1&amp;tbnid=4YU4JlfOqk4lMM:&amp;tbnh=107&amp;tbnw=143&amp;prev=/images%3Fq%3Dbeautiful%2Bmosque%2B%26start%3D54%26ndsp%3D18%26um%3D1%26hl%3Den%26safe%3Doff%26sa%3DN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.wmf"/><Relationship Id="rId3" Type="http://schemas.openxmlformats.org/officeDocument/2006/relationships/hyperlink" Target="http://images.google.com.pk/imgres?imgurl=http://www.mofa.gov.pk/Pages/Punjab_clip_image005.jpg&amp;imgrefurl=http://www.mofa.gov.pk/Pages/Exploring_Pakistan.htm&amp;h=300&amp;w=470&amp;sz=68&amp;hl=en&amp;start=15&amp;um=1&amp;tbnid=ncKVs56HR5nQbM:&amp;tbnh=82&amp;tbnw=129&amp;prev=/images%3Fq%3Dbadshahi%2Bmosque%2B%26um%3D1%26hl%3Den%26safe%3Doff" TargetMode="External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.pk/imgres?imgurl=http://newsimg.bbc.co.uk/media/images/40729000/jpg/_40729788_kazan203afp.jpg&amp;imgrefurl=http://news.bbc.co.uk/2/hi/europe/4186204.stm&amp;h=152&amp;w=203&amp;sz=12&amp;hl=en&amp;start=12&amp;um=1&amp;tbnid=_MXZv-uNZZyqaM:&amp;tbnh=79&amp;tbnw=105&amp;prev=/images%3Fq%3Dbiggest%2Bmosque%26um%3D1%26hl%3Den%26safe%3Doff" TargetMode="External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hyperlink" Target="http://images.google.com.pk/imgres?imgurl=http://perso.orange.fr/istanbul/blue%2520mosque.jpg&amp;imgrefurl=http://sebetty.blogspot.com/2007/06/blue-mosque.html&amp;h=600&amp;w=593&amp;sz=65&amp;hl=en&amp;start=7&amp;um=1&amp;tbnid=r7fBJd05AFWy_M:&amp;tbnh=135&amp;tbnw=133&amp;prev=/images%3Fq%3Dmosque%2B%26um%3D1%26hl%3Den%26safe%3Doff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images.google.com.pk/imgres?imgurl=http://images.inmagine.com/img/inmagineasia/ins006/ins006010.jpg&amp;imgrefurl=http://www.inmagine.com/ins006/ins006010-photo&amp;h=400&amp;w=265&amp;sz=18&amp;hl=en&amp;start=3&amp;um=1&amp;tbnid=oimitFnjwOKYnM:&amp;tbnh=124&amp;tbnw=82&amp;prev=/images%3Fq%3Dmosque%2Blandscape%26um%3D1%26hl%3Den%26safe%3Doff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images.google.com.pk/imgres?imgurl=http://www.gardenvisit.com/assets/madge/jama_mosque2/original/jama_mosque2_original.jpg&amp;imgrefurl=http://www.gardenvisit.com/garden/jama_masjid_old_delhi&amp;h=240&amp;w=320&amp;sz=12&amp;hl=en&amp;start=11&amp;um=1&amp;tbnid=EXa8o7hNfqxqNM:&amp;tbnh=89&amp;tbnw=118&amp;prev=/images%3Fq%3Dmosque%2Blandscape%26um%3D1%26hl%3Den%26safe%3Doff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images.google.com.pk/imgres?imgurl=http://upload.wikimedia.org/wikipedia/en/3/32/ShahFaisalMosque-Islamabad.JPG&amp;imgrefurl=http://www.lazydesis.com/chai-time/21192-world-s-beautiful-mosque.html&amp;h=600&amp;w=800&amp;sz=76&amp;hl=en&amp;start=26&amp;um=1&amp;tbnid=VSdQ8eVkv45ePM:&amp;tbnh=107&amp;tbnw=143&amp;prev=/images%3Fq%3Dbeautiful%2Bmosque%2B%26start%3D18%26ndsp%3D18%26um%3D1%26hl%3Den%26safe%3Doff%26sa%3DN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images.google.com.pk/imgres?imgurl=http://www.richard-seaman.com/Travel/Brunei/WaqifMosqueDaytime.jpg&amp;imgrefurl=http://www.richard-seaman.com/Travel/Brunei/index.html&amp;h=705&amp;w=940&amp;sz=136&amp;hl=en&amp;start=12&amp;um=1&amp;tbnid=taps78w1syunWM:&amp;tbnh=111&amp;tbnw=148&amp;prev=/images%3Fq%3Dmosque%2Blandscape%26um%3D1%26hl%3Den%26safe%3Doff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hyperlink" Target="http://images.google.com.pk/imgres?imgurl=http://www.hot-screensaver.com/wp-myimages/mosque.jpg&amp;imgrefurl=http://www.hot-screensaver.com/2006/06/05/asia-lantern-carnival-2006/&amp;h=345&amp;w=460&amp;sz=29&amp;hl=en&amp;start=6&amp;um=1&amp;tbnid=DlOhUFVnD2n0DM:&amp;tbnh=96&amp;tbnw=128&amp;prev=/images%3Fq%3Dmosque%2B%26um%3D1%26hl%3Den%26safe%3Doff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images.google.com.pk/imgres?imgurl=http://www.7is7.com/otto/travel/photos/20050509/brunei_mosque.jpg&amp;imgrefurl=http://www.7is7.com/otto/travel/photos/20050509/brunei_mosque.html&amp;h=390&amp;w=520&amp;sz=34&amp;hl=en&amp;start=9&amp;um=1&amp;tbnid=gvjYLgGz4M-6qM:&amp;tbnh=98&amp;tbnw=131&amp;prev=/images%3Fq%3Dmosque%2B%26um%3D1%26hl%3Den%26safe%3Doff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wmf"/><Relationship Id="rId3" Type="http://schemas.openxmlformats.org/officeDocument/2006/relationships/hyperlink" Target="http://images.google.com.pk/imgres?imgurl=http://re-xs.ucsm.ac.uk/gcsere/revision/islam/musimages/mosque.JPG&amp;imgrefurl=http://re-xs.ucsm.ac.uk/gcsere/revision/islam/mus2/5.html&amp;h=440&amp;w=620&amp;sz=29&amp;hl=en&amp;start=10&amp;um=1&amp;tbnid=XllSoTbLMqQJlM:&amp;tbnh=97&amp;tbnw=136&amp;prev=/images%3Fq%3Dmosque%2B%26um%3D1%26hl%3Den%26safe%3Doff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Namaz - Sala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9840" y="4636800"/>
            <a:ext cx="584496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th Tarj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rcRect l="40576" t="0" r="0" b="0"/>
          <a:stretch/>
        </p:blipFill>
        <p:spPr>
          <a:xfrm>
            <a:off x="1828800" y="0"/>
            <a:ext cx="7315200" cy="1405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1320" y="47520"/>
            <a:ext cx="4581360" cy="676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010280" y="4038480"/>
            <a:ext cx="222480" cy="228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228600"/>
            <a:ext cx="1600200" cy="1197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21961" b="0"/>
          <a:stretch/>
        </p:blipFill>
        <p:spPr>
          <a:xfrm>
            <a:off x="2286000" y="0"/>
            <a:ext cx="43783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19920" y="533520"/>
            <a:ext cx="312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Salah </a:t>
            </a:r>
            <a:br>
              <a:rPr sz="4400"/>
            </a:b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for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an</a:t>
            </a: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&amp;</a:t>
            </a:r>
            <a:br>
              <a:rPr sz="2400"/>
            </a:b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600200" cy="120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Sal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124680" y="685800"/>
            <a:ext cx="2990880" cy="1295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114960" y="2743200"/>
            <a:ext cx="2981520" cy="3200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171960" y="990720"/>
            <a:ext cx="2904840" cy="942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3419640" y="2057400"/>
            <a:ext cx="2371680" cy="1866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3567240" y="4191120"/>
            <a:ext cx="2209680" cy="1209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28440" y="609480"/>
            <a:ext cx="3086280" cy="3495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47520" y="4267080"/>
            <a:ext cx="308628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362320" y="42840"/>
            <a:ext cx="4572000" cy="6648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992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7520" y="3352680"/>
            <a:ext cx="4372200" cy="3210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2981520" cy="1380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495680" y="304812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191120" y="152280"/>
            <a:ext cx="4724280" cy="2811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923760" cy="1228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4572000" cy="4991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934320" y="3809880"/>
            <a:ext cx="222120" cy="228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429000" y="4114800"/>
            <a:ext cx="304812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67480" y="0"/>
            <a:ext cx="1676520" cy="1254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5486400" cy="2458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543800" y="1295280"/>
            <a:ext cx="222120" cy="228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5499000" y="1587600"/>
            <a:ext cx="190512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017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Salat Tasbee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35000" y="5972040"/>
            <a:ext cx="726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seven postures in a rakat of Salat, in Salat Tasbeeh you need to utter 75 times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"Subhan Allah-e-Wal Hamd-o-lillah-e-Wala-Ilaha -Ilallaho-Wallaho-Akbar "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each ra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2637000"/>
          <a:ext cx="8229240" cy="3488760"/>
        </p:xfrm>
        <a:graphic>
          <a:graphicData uri="http://schemas.openxmlformats.org/drawingml/2006/table">
            <a:tbl>
              <a:tblPr/>
              <a:tblGrid>
                <a:gridCol w="2058840"/>
                <a:gridCol w="2055600"/>
                <a:gridCol w="2059200"/>
                <a:gridCol w="2055600"/>
              </a:tblGrid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ter Surah Fatiha &amp; Sura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Ruko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 bowing d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Sajda (Firs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 Ti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Ti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Ti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Ti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sitting between 2 Saj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Sajda (Secon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 standing up for next rakat; &amp; before Qaedah (Tahiyat) in the 2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amp; last rak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urn to standing position after completing 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amp; 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ak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Ti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Ti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ti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0" y="1066680"/>
          <a:ext cx="9144000" cy="9684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2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u should pray four (4) rakats reading in each rakat the Opening of the Book (Sura Fatiha) and a sur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you become free from reading in the first rakat while you are standing, you shall utter 15 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"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han Allah-e-Wal Hamd-o-lillah-e-Wala-Ilaha -Ilallaho-Wallaho-Akbar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"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[Glory to be Allah and All Praise is for Allah and There is no deity but Allah and Allah is the Greatest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48720" y="0"/>
            <a:ext cx="1295280" cy="974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787" r="7810" b="0"/>
          <a:stretch/>
        </p:blipFill>
        <p:spPr>
          <a:xfrm>
            <a:off x="2362320" y="380880"/>
            <a:ext cx="4495680" cy="5991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H="1">
            <a:off x="5333760" y="1371600"/>
            <a:ext cx="99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6400800"/>
            <a:ext cx="350532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400800" y="1143000"/>
            <a:ext cx="222120" cy="228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/>
          </p:cNvPr>
          <p:cNvPicPr/>
          <p:nvPr/>
        </p:nvPicPr>
        <p:blipFill>
          <a:blip r:embed="rId4"/>
          <a:srcRect l="0" t="10526" r="0" b="0"/>
          <a:stretch/>
        </p:blipFill>
        <p:spPr>
          <a:xfrm>
            <a:off x="7718400" y="0"/>
            <a:ext cx="142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486400" cy="4216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>
            <a:off x="2984040" y="4965840"/>
            <a:ext cx="43434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136000" y="0"/>
            <a:ext cx="1008000" cy="15238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0" y="123840"/>
            <a:ext cx="4572000" cy="6610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0120" y="0"/>
            <a:ext cx="1523880" cy="114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19621" b="0"/>
          <a:stretch/>
        </p:blipFill>
        <p:spPr>
          <a:xfrm>
            <a:off x="1752480" y="0"/>
            <a:ext cx="4594320" cy="6629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0"/>
            <a:ext cx="1676520" cy="1254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09680" y="28440"/>
            <a:ext cx="4699080" cy="6677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91520" y="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7400" y="3749760"/>
            <a:ext cx="5029200" cy="1498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914480" y="990720"/>
            <a:ext cx="5172120" cy="1846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1520" y="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18993" b="0"/>
          <a:stretch/>
        </p:blipFill>
        <p:spPr>
          <a:xfrm>
            <a:off x="2514600" y="85680"/>
            <a:ext cx="4191120" cy="6486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324480" y="-7632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Wazoo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676520" cy="1254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32812" b="0"/>
          <a:stretch/>
        </p:blipFill>
        <p:spPr>
          <a:xfrm>
            <a:off x="2840040" y="162000"/>
            <a:ext cx="3484440" cy="6391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-15228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Tahaar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95880" y="1523880"/>
            <a:ext cx="222480" cy="228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52480" cy="1249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bdul.Basit</cp:lastModifiedBy>
  <dcterms:modified xsi:type="dcterms:W3CDTF">2008-07-30T05:12:46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