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7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BA2C-F7F4-4998-AA5E-C079ADD37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1201-992E-4479-BDAF-A262DA00F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2C5B-9710-49EE-9747-13A3023A8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9E5B-5F9D-47CA-A01F-5C1A44A9C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A5EE-E9F9-468D-A8BC-1073548A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DFEE-B5A9-4297-A7F6-EF8F3BDDC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050B-3972-4A94-BFF8-E71C4253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29D4-C717-43D4-A84B-D625923E0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32AE-8A28-430F-BDAA-330046F4F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8D6C-2A61-477E-BB17-527EFCE9B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5E40-F3D7-48C0-8756-256CACF75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5098-ADBE-4E94-B5F7-E3688137E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0236-C711-4101-A471-05E0AA36A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F7B4-A31F-4B9C-8A53-2BAA7E21F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05D1-57DC-408F-BF18-364A4738A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C414-5401-4C63-ACB3-6123FF36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25C9-9290-47E6-944C-7088E29C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11230-1AC5-4FC0-9B30-FFEF5343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DC3F7-7F26-48F6-8471-1D556537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C63FD-EEB9-4ADA-91CF-6BC56EA8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FAFFB-68AA-48F0-9633-C425AEBF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A0F53-1519-4209-9CDF-71A733DD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74600" y="2196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E06EB-A077-4839-A676-22B857D1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CC441-7A0D-4A44-859F-DB658652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E300E-4242-47BF-B66F-8465C8A7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60BC0-AC38-4D8C-A16E-282603CB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8E504-B4CA-4771-9129-AB9A19C1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B1595-87ED-4C1A-8252-73FDA0A9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28E09-3007-473A-99FA-207A1CCB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74600" y="2196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http://be-your-future.blogspot.com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290520" y="260280"/>
            <a:ext cx="711360" cy="474840"/>
            <a:chOff x="290520" y="260280"/>
            <a:chExt cx="711360" cy="474840"/>
          </a:xfrm>
        </p:grpSpPr>
        <p:sp>
          <p:nvSpPr>
            <p:cNvPr id="40" name="Rectangle 3"/>
            <p:cNvSpPr/>
            <p:nvPr/>
          </p:nvSpPr>
          <p:spPr>
            <a:xfrm>
              <a:off x="290520" y="260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" name="Rectangle 4"/>
            <p:cNvSpPr/>
            <p:nvPr/>
          </p:nvSpPr>
          <p:spPr>
            <a:xfrm>
              <a:off x="673560" y="260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" name="Group 5"/>
          <p:cNvGrpSpPr/>
          <p:nvPr/>
        </p:nvGrpSpPr>
        <p:grpSpPr>
          <a:xfrm>
            <a:off x="414360" y="682560"/>
            <a:ext cx="737640" cy="474840"/>
            <a:chOff x="414360" y="682560"/>
            <a:chExt cx="737640" cy="474840"/>
          </a:xfrm>
        </p:grpSpPr>
        <p:sp>
          <p:nvSpPr>
            <p:cNvPr id="43" name="Rectangle 6"/>
            <p:cNvSpPr/>
            <p:nvPr/>
          </p:nvSpPr>
          <p:spPr>
            <a:xfrm>
              <a:off x="414360" y="682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783000" y="682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5" name="Rectangle 8"/>
          <p:cNvSpPr/>
          <p:nvPr/>
        </p:nvSpPr>
        <p:spPr>
          <a:xfrm>
            <a:off x="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504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5"/>
          <p:cNvSpPr/>
          <p:nvPr/>
        </p:nvSpPr>
        <p:spPr>
          <a:xfrm flipV="1">
            <a:off x="316080" y="979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Picture 16" descr="SfSI"/>
          <p:cNvPicPr/>
          <p:nvPr/>
        </p:nvPicPr>
        <p:blipFill>
          <a:blip r:embed="rId2"/>
          <a:srcRect l="0" t="0" r="0" b="15050"/>
          <a:stretch/>
        </p:blipFill>
        <p:spPr>
          <a:xfrm>
            <a:off x="0" y="6248520"/>
            <a:ext cx="21337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CDf_Logo_Col_72"/>
          <p:cNvPicPr/>
          <p:nvPr/>
        </p:nvPicPr>
        <p:blipFill>
          <a:blip r:embed="rId3"/>
          <a:stretch/>
        </p:blipFill>
        <p:spPr>
          <a:xfrm>
            <a:off x="8381880" y="5943600"/>
            <a:ext cx="69084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CLG_RGB"/>
          <p:cNvPicPr/>
          <p:nvPr/>
        </p:nvPicPr>
        <p:blipFill>
          <a:blip r:embed="rId4"/>
          <a:srcRect l="4351" t="8660" r="4351" b="10144"/>
          <a:stretch/>
        </p:blipFill>
        <p:spPr>
          <a:xfrm>
            <a:off x="3733920" y="6172200"/>
            <a:ext cx="16002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A5A8-6183-4D4D-A7C5-17A26E0F6E95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Picture 5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152280" y="380880"/>
            <a:ext cx="3505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Why should anyone be led by you?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Future Next Exit"/>
          <p:cNvPicPr/>
          <p:nvPr/>
        </p:nvPicPr>
        <p:blipFill>
          <a:blip r:embed="rId1"/>
          <a:srcRect l="0" t="0" r="0" b="3263"/>
          <a:stretch/>
        </p:blipFill>
        <p:spPr>
          <a:xfrm>
            <a:off x="0" y="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0" y="0"/>
            <a:ext cx="548640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In Getting Them Towards Their Desired Future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aseball_iStock_3135629XSmall"/>
          <p:cNvPicPr/>
          <p:nvPr/>
        </p:nvPicPr>
        <p:blipFill>
          <a:blip r:embed="rId1"/>
          <a:srcRect l="0" t="0" r="0" b="13216"/>
          <a:stretch/>
        </p:blipFill>
        <p:spPr>
          <a:xfrm>
            <a:off x="0" y="0"/>
            <a:ext cx="9144000" cy="5796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0" y="43876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through your passions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They see your brand 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Boy with worldmap_iStock_2576959X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85840"/>
            <a:ext cx="4952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Your ethics speak through your actions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45" name="Picture 4" descr="values-mobile-glamour-shop"/>
          <p:cNvPicPr/>
          <p:nvPr/>
        </p:nvPicPr>
        <p:blipFill>
          <a:blip r:embed="rId1"/>
          <a:srcRect l="-53" t="6857" r="66" b="7796"/>
          <a:stretch/>
        </p:blipFill>
        <p:spPr>
          <a:xfrm>
            <a:off x="0" y="12600"/>
            <a:ext cx="9144000" cy="5854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126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Your values are great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optimism"/>
          <p:cNvPicPr/>
          <p:nvPr/>
        </p:nvPicPr>
        <p:blipFill>
          <a:blip r:embed="rId1"/>
          <a:srcRect l="0" t="0" r="0" b="5232"/>
          <a:stretch/>
        </p:blipFill>
        <p:spPr>
          <a:xfrm>
            <a:off x="0" y="0"/>
            <a:ext cx="9144000" cy="5775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Your hopes are backed by action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ourage Dolls 3531379XSmall"/>
          <p:cNvPicPr/>
          <p:nvPr/>
        </p:nvPicPr>
        <p:blipFill>
          <a:blip r:embed="rId1"/>
          <a:srcRect l="0" t="0" r="0" b="14504"/>
          <a:stretch/>
        </p:blipFill>
        <p:spPr>
          <a:xfrm>
            <a:off x="0" y="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0" y="0"/>
            <a:ext cx="4267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You have the courage to make true decisions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Rock climbing"/>
          <p:cNvPicPr/>
          <p:nvPr/>
        </p:nvPicPr>
        <p:blipFill>
          <a:blip r:embed="rId1"/>
          <a:srcRect l="0" t="15020" r="0" b="0"/>
          <a:stretch/>
        </p:blipFill>
        <p:spPr>
          <a:xfrm>
            <a:off x="0" y="0"/>
            <a:ext cx="9144000" cy="582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0" y="0"/>
            <a:ext cx="4191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You have the resilience to hang tough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handshake"/>
          <p:cNvPicPr/>
          <p:nvPr/>
        </p:nvPicPr>
        <p:blipFill>
          <a:blip r:embed="rId1"/>
          <a:srcRect l="0" t="21248" r="0" b="0"/>
          <a:stretch/>
        </p:blipFill>
        <p:spPr>
          <a:xfrm>
            <a:off x="76320" y="0"/>
            <a:ext cx="7619760" cy="60897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2590920" y="2637000"/>
            <a:ext cx="533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Your</a:t>
            </a: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friendship</a:t>
            </a: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 is </a:t>
            </a: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important</a:t>
            </a:r>
            <a:endParaRPr b="0" lang="en-US" sz="7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69" name="Picture 4" descr="Boy In Fountain_iStock_752982XSmall"/>
          <p:cNvPicPr/>
          <p:nvPr/>
        </p:nvPicPr>
        <p:blipFill>
          <a:blip r:embed="rId1"/>
          <a:srcRect l="0" t="0" r="0" b="8494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4572000" y="82224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And you’re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fun to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entury Gothic"/>
              </a:rPr>
              <a:t>be with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rcRect l="0" t="0" r="0" b="844"/>
          <a:stretch/>
        </p:blipFill>
        <p:spPr>
          <a:xfrm>
            <a:off x="152280" y="838080"/>
            <a:ext cx="3229200" cy="4800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505320" y="1050840"/>
            <a:ext cx="5410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That’s when they will show commitmen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nd may be ……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 passion for working in your organisatio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3" name="Picture 2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0" y="103824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Leading others begins by leading yourself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6" name="Picture 2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Personal leadership: where every person becomes a leader who will engage with their surroundings, take sustainable action and work with others to solve problems rather than create them.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9" name="Picture 2" descr="Boy With Map on Face 2576959XSmall"/>
          <p:cNvPicPr/>
          <p:nvPr/>
        </p:nvPicPr>
        <p:blipFill>
          <a:blip r:embed="rId1"/>
          <a:srcRect l="0" t="2506" r="0" b="0"/>
          <a:stretch/>
        </p:blipFill>
        <p:spPr>
          <a:xfrm>
            <a:off x="0" y="0"/>
            <a:ext cx="9144000" cy="5915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0" y="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If everyone was a leader with a personal vision, and worked towards the goal of improving themselves and others, their world would change every day; and work becomes rewarding and </a:t>
            </a:r>
            <a:r>
              <a:rPr b="0" lang="en-GB" sz="4800" spc="-1" strike="noStrike">
                <a:solidFill>
                  <a:srgbClr val="ffffff"/>
                </a:solidFill>
                <a:latin typeface="Century Gothic"/>
              </a:rPr>
              <a:t>no different</a:t>
            </a: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 from play.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306160" y="152280"/>
            <a:ext cx="4382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Your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Peopl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will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becom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15" name="Picture 4" descr="Goldfish_Jump_Over_An_Aquarium_56269-full"/>
          <p:cNvPicPr/>
          <p:nvPr/>
        </p:nvPicPr>
        <p:blipFill>
          <a:blip r:embed="rId1"/>
          <a:srcRect l="0" t="0" r="0" b="1393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0" y="4616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Loyal and committed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683360" y="152280"/>
            <a:ext cx="5650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When 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They Ar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Convinced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entury Gothic"/>
              </a:rPr>
              <a:t>You Are</a:t>
            </a:r>
            <a:endParaRPr b="0" lang="en-US" sz="8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21" name="Picture 4" descr="penguines"/>
          <p:cNvPicPr/>
          <p:nvPr/>
        </p:nvPicPr>
        <p:blipFill>
          <a:blip r:embed="rId1"/>
          <a:srcRect l="0" t="3599" r="0" b="12058"/>
          <a:stretch/>
        </p:blipFill>
        <p:spPr>
          <a:xfrm>
            <a:off x="0" y="0"/>
            <a:ext cx="9144000" cy="5784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Worth Following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0" y="6324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4600" y="219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entury Gothic"/>
            </a:endParaRPr>
          </a:p>
        </p:txBody>
      </p:sp>
      <p:pic>
        <p:nvPicPr>
          <p:cNvPr id="125" name="Picture 4" descr="Mother Teresa"/>
          <p:cNvPicPr/>
          <p:nvPr/>
        </p:nvPicPr>
        <p:blipFill>
          <a:blip r:embed="rId1"/>
          <a:srcRect l="0" t="2135" r="0" b="18366"/>
          <a:stretch/>
        </p:blipFill>
        <p:spPr>
          <a:xfrm>
            <a:off x="0" y="0"/>
            <a:ext cx="9144000" cy="5856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0" y="0"/>
            <a:ext cx="5257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You Possess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Genuine Compassion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0:47:37Z</dcterms:created>
  <dc:creator>Kwai Yu</dc:creator>
  <dc:description/>
  <cp:keywords/>
  <dc:language>en-US</dc:language>
  <cp:lastModifiedBy>Mani</cp:lastModifiedBy>
  <cp:lastPrinted>2008-04-28T03:32:37Z</cp:lastPrinted>
  <dcterms:modified xsi:type="dcterms:W3CDTF">2009-01-23T04:03:17Z</dcterms:modified>
  <cp:revision>155</cp:revision>
  <dc:subject/>
  <dc:title>PowerPoint Presentation</dc:title>
</cp:coreProperties>
</file>