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5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7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A540-27B0-4ABC-997D-C82CA5058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14CB-F635-4E9B-B719-2A2408296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738F-B6AA-439F-9D35-A7FCABAD8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5C94-9CA9-4258-903F-162435C65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ABD3-83ED-4536-8A77-23E61AD37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93BF-348A-431F-8B76-FC8E28235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B160-E7B9-4F29-B0CA-F4498D76D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32EC-035A-42BD-93FD-D519B5F00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A987-2807-4808-9A6E-2B0DA6D9C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EEF7-EC94-45AA-B96B-3B8F1E255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19DF-D5AB-4A1F-9B07-B6C1213A7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184D-1841-480E-B145-8A41BB0BB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CE18-B507-4176-8A47-901ACB6A0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FF02-A543-43B4-A963-AE5E3B11D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1CBE-794D-4B0F-B7CE-DF36D4AB5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6474-DED3-4FFD-93D8-0C78D87EF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7C4E-6E96-4D99-9FC5-6BC4AE47A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DB639-8AF3-4387-A9CE-286813BF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B0F4F-0BC1-4274-A305-2383E2D1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F78E3-BF33-4CC6-BA6C-EC6C6C96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C7CA3-0318-4988-9514-2A0D2370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7DFB4-7E2F-441B-B0C5-28549F18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74600" y="21960"/>
            <a:ext cx="779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C532B-850D-4999-9117-F0D1FA43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CFFB3-736F-4933-BB38-96E0F738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FDD18-E389-4C9D-8A3C-FED712BC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2B9F0-7CBA-4655-B391-AFBCBA50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DCE3E-690F-4F92-B0F4-FE868017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BA33D-DED1-4B0F-98CA-820158C3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7AEC5-FC84-49B1-8AC3-AA6E12EE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74600" y="21960"/>
            <a:ext cx="779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http://be-your-future.blogspot.com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2"/>
          <p:cNvGrpSpPr/>
          <p:nvPr/>
        </p:nvGrpSpPr>
        <p:grpSpPr>
          <a:xfrm>
            <a:off x="290520" y="260280"/>
            <a:ext cx="711360" cy="474840"/>
            <a:chOff x="290520" y="260280"/>
            <a:chExt cx="711360" cy="474840"/>
          </a:xfrm>
        </p:grpSpPr>
        <p:sp>
          <p:nvSpPr>
            <p:cNvPr id="40" name="Rectangle 3"/>
            <p:cNvSpPr/>
            <p:nvPr/>
          </p:nvSpPr>
          <p:spPr>
            <a:xfrm>
              <a:off x="290520" y="260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" name="Rectangle 4"/>
            <p:cNvSpPr/>
            <p:nvPr/>
          </p:nvSpPr>
          <p:spPr>
            <a:xfrm>
              <a:off x="673560" y="260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" name="Group 5"/>
          <p:cNvGrpSpPr/>
          <p:nvPr/>
        </p:nvGrpSpPr>
        <p:grpSpPr>
          <a:xfrm>
            <a:off x="414360" y="682560"/>
            <a:ext cx="737640" cy="474840"/>
            <a:chOff x="414360" y="682560"/>
            <a:chExt cx="737640" cy="474840"/>
          </a:xfrm>
        </p:grpSpPr>
        <p:sp>
          <p:nvSpPr>
            <p:cNvPr id="43" name="Rectangle 6"/>
            <p:cNvSpPr/>
            <p:nvPr/>
          </p:nvSpPr>
          <p:spPr>
            <a:xfrm>
              <a:off x="414360" y="682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" name="Rectangle 7"/>
            <p:cNvSpPr/>
            <p:nvPr/>
          </p:nvSpPr>
          <p:spPr>
            <a:xfrm>
              <a:off x="783000" y="682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5" name="Rectangle 8"/>
          <p:cNvSpPr/>
          <p:nvPr/>
        </p:nvSpPr>
        <p:spPr>
          <a:xfrm>
            <a:off x="0" y="60948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35040" y="152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Rectangle 15"/>
          <p:cNvSpPr/>
          <p:nvPr/>
        </p:nvSpPr>
        <p:spPr>
          <a:xfrm flipV="1">
            <a:off x="316080" y="979200"/>
            <a:ext cx="8683560" cy="460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" name="Picture 16" descr="SfSI"/>
          <p:cNvPicPr/>
          <p:nvPr/>
        </p:nvPicPr>
        <p:blipFill>
          <a:blip r:embed="rId2"/>
          <a:srcRect l="0" t="0" r="0" b="15050"/>
          <a:stretch/>
        </p:blipFill>
        <p:spPr>
          <a:xfrm>
            <a:off x="0" y="6248520"/>
            <a:ext cx="213372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CDf_Logo_Col_72"/>
          <p:cNvPicPr/>
          <p:nvPr/>
        </p:nvPicPr>
        <p:blipFill>
          <a:blip r:embed="rId3"/>
          <a:stretch/>
        </p:blipFill>
        <p:spPr>
          <a:xfrm>
            <a:off x="8381880" y="5943600"/>
            <a:ext cx="690840" cy="838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CLG_RGB"/>
          <p:cNvPicPr/>
          <p:nvPr/>
        </p:nvPicPr>
        <p:blipFill>
          <a:blip r:embed="rId4"/>
          <a:srcRect l="4351" t="8660" r="4351" b="10144"/>
          <a:stretch/>
        </p:blipFill>
        <p:spPr>
          <a:xfrm>
            <a:off x="3733920" y="6172200"/>
            <a:ext cx="1600200" cy="609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A422-3507-4338-879E-3085EAB98CF1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0" name="Picture 5" descr="Boy With Map on Face 2576959XSmall"/>
          <p:cNvPicPr/>
          <p:nvPr/>
        </p:nvPicPr>
        <p:blipFill>
          <a:blip r:embed="rId1"/>
          <a:srcRect l="0" t="2506" r="0" b="0"/>
          <a:stretch/>
        </p:blipFill>
        <p:spPr>
          <a:xfrm>
            <a:off x="0" y="0"/>
            <a:ext cx="9144000" cy="5915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152280" y="380880"/>
            <a:ext cx="35053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Why should anyone be led by you?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Future Next Exit"/>
          <p:cNvPicPr/>
          <p:nvPr/>
        </p:nvPicPr>
        <p:blipFill>
          <a:blip r:embed="rId1"/>
          <a:srcRect l="0" t="0" r="0" b="3263"/>
          <a:stretch/>
        </p:blipFill>
        <p:spPr>
          <a:xfrm>
            <a:off x="0" y="0"/>
            <a:ext cx="9144000" cy="5705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0" y="0"/>
            <a:ext cx="548640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In Getting Them Towards Their Desired Future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baseball_iStock_3135629XSmall"/>
          <p:cNvPicPr/>
          <p:nvPr/>
        </p:nvPicPr>
        <p:blipFill>
          <a:blip r:embed="rId1"/>
          <a:srcRect l="0" t="0" r="0" b="13216"/>
          <a:stretch/>
        </p:blipFill>
        <p:spPr>
          <a:xfrm>
            <a:off x="0" y="0"/>
            <a:ext cx="9144000" cy="5796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0" y="43876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through your passions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They see your brand 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Boy with worldmap_iStock_2576959X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067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285840"/>
            <a:ext cx="4952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Your ethics speak through your actions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45" name="Picture 4" descr="values-mobile-glamour-shop"/>
          <p:cNvPicPr/>
          <p:nvPr/>
        </p:nvPicPr>
        <p:blipFill>
          <a:blip r:embed="rId1"/>
          <a:srcRect l="-53" t="6857" r="66" b="7796"/>
          <a:stretch/>
        </p:blipFill>
        <p:spPr>
          <a:xfrm>
            <a:off x="0" y="12600"/>
            <a:ext cx="9144000" cy="58546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0" y="1260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Your values are great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optimism"/>
          <p:cNvPicPr/>
          <p:nvPr/>
        </p:nvPicPr>
        <p:blipFill>
          <a:blip r:embed="rId1"/>
          <a:srcRect l="0" t="0" r="0" b="5232"/>
          <a:stretch/>
        </p:blipFill>
        <p:spPr>
          <a:xfrm>
            <a:off x="0" y="0"/>
            <a:ext cx="9144000" cy="5775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Your hopes are backed by action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Courage Dolls 3531379XSmall"/>
          <p:cNvPicPr/>
          <p:nvPr/>
        </p:nvPicPr>
        <p:blipFill>
          <a:blip r:embed="rId1"/>
          <a:srcRect l="0" t="0" r="0" b="14504"/>
          <a:stretch/>
        </p:blipFill>
        <p:spPr>
          <a:xfrm>
            <a:off x="0" y="0"/>
            <a:ext cx="9144000" cy="58611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0" y="0"/>
            <a:ext cx="4267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You have the courage to make true decisions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Rock climbing"/>
          <p:cNvPicPr/>
          <p:nvPr/>
        </p:nvPicPr>
        <p:blipFill>
          <a:blip r:embed="rId1"/>
          <a:srcRect l="0" t="15020" r="0" b="0"/>
          <a:stretch/>
        </p:blipFill>
        <p:spPr>
          <a:xfrm>
            <a:off x="0" y="0"/>
            <a:ext cx="9144000" cy="5827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0" y="0"/>
            <a:ext cx="41911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entury Gothic"/>
              </a:rPr>
              <a:t>You have the resilience to hang tough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handshake"/>
          <p:cNvPicPr/>
          <p:nvPr/>
        </p:nvPicPr>
        <p:blipFill>
          <a:blip r:embed="rId1"/>
          <a:srcRect l="0" t="21248" r="0" b="0"/>
          <a:stretch/>
        </p:blipFill>
        <p:spPr>
          <a:xfrm>
            <a:off x="76320" y="0"/>
            <a:ext cx="7619760" cy="60897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2590920" y="2637000"/>
            <a:ext cx="5333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entury Gothic"/>
              </a:rPr>
              <a:t>Your</a:t>
            </a: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Century Gothic"/>
              </a:rPr>
              <a:t>friendship</a:t>
            </a: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 is </a:t>
            </a:r>
            <a:r>
              <a:rPr b="0" lang="en-US" sz="7200" spc="-1" strike="noStrike">
                <a:solidFill>
                  <a:srgbClr val="ffffff"/>
                </a:solidFill>
                <a:latin typeface="Century Gothic"/>
              </a:rPr>
              <a:t>important</a:t>
            </a:r>
            <a:endParaRPr b="0" lang="en-US" sz="7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69" name="Picture 4" descr="Boy In Fountain_iStock_752982XSmall"/>
          <p:cNvPicPr/>
          <p:nvPr/>
        </p:nvPicPr>
        <p:blipFill>
          <a:blip r:embed="rId1"/>
          <a:srcRect l="0" t="0" r="0" b="8494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4572000" y="82224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And you’re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fun to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be with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rcRect l="0" t="0" r="0" b="844"/>
          <a:stretch/>
        </p:blipFill>
        <p:spPr>
          <a:xfrm>
            <a:off x="152280" y="838080"/>
            <a:ext cx="3229200" cy="48006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3505320" y="1050840"/>
            <a:ext cx="5410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That’s when they will show commitmen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And may be ……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A passion for working in your organisatio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3" name="Picture 2" descr="Boy With Map on Face 2576959XSmall"/>
          <p:cNvPicPr/>
          <p:nvPr/>
        </p:nvPicPr>
        <p:blipFill>
          <a:blip r:embed="rId1"/>
          <a:srcRect l="0" t="2506" r="0" b="0"/>
          <a:stretch/>
        </p:blipFill>
        <p:spPr>
          <a:xfrm>
            <a:off x="0" y="0"/>
            <a:ext cx="9144000" cy="59151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0" y="1038240"/>
            <a:ext cx="3886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Leading others begins by leading yourself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6" name="Picture 2" descr="Boy With Map on Face 2576959XSmall"/>
          <p:cNvPicPr/>
          <p:nvPr/>
        </p:nvPicPr>
        <p:blipFill>
          <a:blip r:embed="rId1"/>
          <a:srcRect l="0" t="2506" r="0" b="0"/>
          <a:stretch/>
        </p:blipFill>
        <p:spPr>
          <a:xfrm>
            <a:off x="0" y="0"/>
            <a:ext cx="9144000" cy="5915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Personal leadership: where every person becomes a leader who will engage with their surroundings, take sustainable action and work with others to solve problems rather than create them.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9" name="Picture 2" descr="Boy With Map on Face 2576959XSmall"/>
          <p:cNvPicPr/>
          <p:nvPr/>
        </p:nvPicPr>
        <p:blipFill>
          <a:blip r:embed="rId1"/>
          <a:srcRect l="0" t="2506" r="0" b="0"/>
          <a:stretch/>
        </p:blipFill>
        <p:spPr>
          <a:xfrm>
            <a:off x="0" y="0"/>
            <a:ext cx="9144000" cy="59151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0" y="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If everyone was a leader with a personal vision, and worked towards the goal of improving themselves and others, their world would change every day; and work becomes rewarding and </a:t>
            </a:r>
            <a:r>
              <a:rPr b="0" lang="en-GB" sz="4800" spc="-1" strike="noStrike">
                <a:solidFill>
                  <a:srgbClr val="ffffff"/>
                </a:solidFill>
                <a:latin typeface="Century Gothic"/>
              </a:rPr>
              <a:t>no different</a:t>
            </a: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 from play.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306160" y="152280"/>
            <a:ext cx="4382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entury Gothic"/>
              </a:rPr>
              <a:t>Your</a:t>
            </a:r>
            <a:endParaRPr b="0" lang="en-US" sz="8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entury Gothic"/>
              </a:rPr>
              <a:t>People</a:t>
            </a:r>
            <a:endParaRPr b="0" lang="en-US" sz="8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entury Gothic"/>
              </a:rPr>
              <a:t>will</a:t>
            </a:r>
            <a:endParaRPr b="0" lang="en-US" sz="8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entury Gothic"/>
              </a:rPr>
              <a:t>become</a:t>
            </a:r>
            <a:endParaRPr b="0" lang="en-US" sz="8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15" name="Picture 4" descr="Goldfish_Jump_Over_An_Aquarium_56269-full"/>
          <p:cNvPicPr/>
          <p:nvPr/>
        </p:nvPicPr>
        <p:blipFill>
          <a:blip r:embed="rId1"/>
          <a:srcRect l="0" t="0" r="0" b="1393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0" y="46162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entury Gothic"/>
              </a:rPr>
              <a:t>Loyal and committed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683360" y="152280"/>
            <a:ext cx="56502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entury Gothic"/>
              </a:rPr>
              <a:t>When </a:t>
            </a:r>
            <a:endParaRPr b="0" lang="en-US" sz="8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entury Gothic"/>
              </a:rPr>
              <a:t>They Are</a:t>
            </a:r>
            <a:endParaRPr b="0" lang="en-US" sz="8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entury Gothic"/>
              </a:rPr>
              <a:t>Convinced</a:t>
            </a:r>
            <a:endParaRPr b="0" lang="en-US" sz="8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entury Gothic"/>
              </a:rPr>
              <a:t>You Are</a:t>
            </a:r>
            <a:endParaRPr b="0" lang="en-US" sz="8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21" name="Picture 4" descr="penguines"/>
          <p:cNvPicPr/>
          <p:nvPr/>
        </p:nvPicPr>
        <p:blipFill>
          <a:blip r:embed="rId1"/>
          <a:srcRect l="0" t="3599" r="0" b="12058"/>
          <a:stretch/>
        </p:blipFill>
        <p:spPr>
          <a:xfrm>
            <a:off x="0" y="0"/>
            <a:ext cx="9144000" cy="5784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Worth Following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25" name="Picture 4" descr="Mother Teresa"/>
          <p:cNvPicPr/>
          <p:nvPr/>
        </p:nvPicPr>
        <p:blipFill>
          <a:blip r:embed="rId1"/>
          <a:srcRect l="0" t="2135" r="0" b="18366"/>
          <a:stretch/>
        </p:blipFill>
        <p:spPr>
          <a:xfrm>
            <a:off x="0" y="0"/>
            <a:ext cx="9144000" cy="58561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0" y="0"/>
            <a:ext cx="5257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entury Gothic"/>
              </a:rPr>
              <a:t>You Possess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entury Gothic"/>
              </a:rPr>
              <a:t>Genuine Compassion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0:47:37Z</dcterms:created>
  <dc:creator>Kwai Yu</dc:creator>
  <dc:description/>
  <cp:keywords/>
  <dc:language>en-US</dc:language>
  <cp:lastModifiedBy>Mani</cp:lastModifiedBy>
  <cp:lastPrinted>2008-04-28T03:32:37Z</cp:lastPrinted>
  <dcterms:modified xsi:type="dcterms:W3CDTF">2009-01-23T04:03:17Z</dcterms:modified>
  <cp:revision>155</cp:revision>
  <dc:subject/>
  <dc:title>PowerPoint Presentation</dc:title>
</cp:coreProperties>
</file>