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72025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318200"/>
            <a:ext cx="72025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35146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47560" y="2692440"/>
            <a:ext cx="35146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318200"/>
            <a:ext cx="35146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147560" y="4318200"/>
            <a:ext cx="35146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23191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92240" y="2692440"/>
            <a:ext cx="23191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7640" y="2692440"/>
            <a:ext cx="23191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318200"/>
            <a:ext cx="23191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92240" y="4318200"/>
            <a:ext cx="23191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7640" y="4318200"/>
            <a:ext cx="23191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2692440"/>
            <a:ext cx="72025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72025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35146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47560" y="2692440"/>
            <a:ext cx="35146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36840" y="334080"/>
            <a:ext cx="727704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35146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47560" y="2692440"/>
            <a:ext cx="35146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318200"/>
            <a:ext cx="35146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2692440"/>
            <a:ext cx="72025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35146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47560" y="2692440"/>
            <a:ext cx="35146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47560" y="4318200"/>
            <a:ext cx="35146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35146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47560" y="2692440"/>
            <a:ext cx="35146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318200"/>
            <a:ext cx="72025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72025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318200"/>
            <a:ext cx="72025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35146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47560" y="2692440"/>
            <a:ext cx="35146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318200"/>
            <a:ext cx="35146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47560" y="4318200"/>
            <a:ext cx="35146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23191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92240" y="2692440"/>
            <a:ext cx="23191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27640" y="2692440"/>
            <a:ext cx="23191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318200"/>
            <a:ext cx="23191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92240" y="4318200"/>
            <a:ext cx="23191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327640" y="4318200"/>
            <a:ext cx="23191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72025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35146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147560" y="2692440"/>
            <a:ext cx="35146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36840" y="334080"/>
            <a:ext cx="727704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35146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147560" y="2692440"/>
            <a:ext cx="35146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318200"/>
            <a:ext cx="35146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35146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47560" y="2692440"/>
            <a:ext cx="35146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47560" y="4318200"/>
            <a:ext cx="35146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35146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47560" y="2692440"/>
            <a:ext cx="35146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318200"/>
            <a:ext cx="72025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2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5120" y="1216080"/>
            <a:ext cx="7203960" cy="4448160"/>
          </a:xfrm>
          <a:prstGeom prst="rect">
            <a:avLst/>
          </a:prstGeom>
          <a:solidFill>
            <a:srgbClr val="7a9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473120" y="0"/>
            <a:ext cx="7670880" cy="1231920"/>
          </a:xfrm>
          <a:prstGeom prst="rect">
            <a:avLst/>
          </a:prstGeom>
          <a:solidFill>
            <a:srgbClr val="618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447920" y="6375240"/>
            <a:ext cx="7696080" cy="0"/>
          </a:xfrm>
          <a:prstGeom prst="line">
            <a:avLst/>
          </a:prstGeom>
          <a:ln w="38160">
            <a:solidFill>
              <a:srgbClr val="005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371600" y="6400800"/>
            <a:ext cx="3484440" cy="457200"/>
          </a:xfrm>
          <a:prstGeom prst="rect">
            <a:avLst/>
          </a:prstGeom>
          <a:solidFill>
            <a:srgbClr val="c06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l Reali • CyberSkills, Inc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2692440"/>
            <a:ext cx="72025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5d2d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2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73120" y="0"/>
            <a:ext cx="7670880" cy="2692440"/>
          </a:xfrm>
          <a:prstGeom prst="rect">
            <a:avLst/>
          </a:prstGeom>
          <a:solidFill>
            <a:srgbClr val="7a9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61680" y="1773000"/>
            <a:ext cx="711684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9360" y="6527880"/>
            <a:ext cx="7696080" cy="0"/>
          </a:xfrm>
          <a:prstGeom prst="line">
            <a:avLst/>
          </a:prstGeom>
          <a:ln w="38160">
            <a:solidFill>
              <a:srgbClr val="005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acf8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cacf86"/>
              </a:solidFill>
              <a:latin typeface="Verdana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5d2d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acf8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cacf86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2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56200" y="5664240"/>
            <a:ext cx="229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acf86"/>
                </a:solidFill>
                <a:latin typeface="Verdana"/>
              </a:rPr>
              <a:t>Gary Dichtenbe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acf86"/>
                </a:solidFill>
                <a:latin typeface="Verdana"/>
              </a:rPr>
              <a:t>CyberSkills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61680" y="649440"/>
            <a:ext cx="7116840" cy="17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Creative Problem Solving with</a:t>
            </a:r>
            <a:br>
              <a:rPr sz="4300"/>
            </a:br>
            <a:r>
              <a:rPr b="0" lang="en-US" sz="6900" spc="-1" strike="noStrike">
                <a:solidFill>
                  <a:srgbClr val="ffffff"/>
                </a:solidFill>
                <a:latin typeface="Times New Roman"/>
              </a:rPr>
              <a:t>Six Thinking Hats</a:t>
            </a:r>
            <a:endParaRPr b="0" lang="en-US" sz="6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360240" y="3126960"/>
            <a:ext cx="467532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acf86"/>
                </a:solidFill>
                <a:latin typeface="Verdana"/>
              </a:rPr>
              <a:t>How to use Edward deBono’s</a:t>
            </a:r>
            <a:br>
              <a:rPr sz="2000"/>
            </a:br>
            <a:r>
              <a:rPr b="0" lang="en-US" sz="2000" spc="-1" strike="noStrike">
                <a:solidFill>
                  <a:srgbClr val="cacf86"/>
                </a:solidFill>
                <a:latin typeface="Verdana"/>
              </a:rPr>
              <a:t>parallel thinking in problem solving</a:t>
            </a:r>
            <a:endParaRPr b="0" lang="en-US" sz="2000" spc="-1" strike="noStrike">
              <a:solidFill>
                <a:srgbClr val="cacf86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93560" y="3174840"/>
            <a:ext cx="1470240" cy="1047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463760" y="3935520"/>
            <a:ext cx="1469880" cy="1047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865600" y="3935520"/>
            <a:ext cx="1469880" cy="1047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683240" y="4662360"/>
            <a:ext cx="1469880" cy="1047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661000" y="5391000"/>
            <a:ext cx="1469880" cy="1047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6659640" y="3929040"/>
            <a:ext cx="1469880" cy="1047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2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Using the hats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2092320"/>
            <a:ext cx="7202520" cy="35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Use any hat, as often as needed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Sequence can be preset or evolving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Not necessary to use every hat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Time under each hat: generally, short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Requires discipline from each person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While using it, stay in the idiom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Adds an element of play, play along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Can be used by individuals and group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2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The blue hat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7202520" cy="222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Thinking about thinking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Instructions for thinking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The organization of thinking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Control of the other hat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Discipline and focu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799320" y="711360"/>
            <a:ext cx="1469880" cy="1047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2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The blue hat role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69840"/>
            <a:ext cx="7202520" cy="38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Control of thinking &amp; the proces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Begin &amp; end session with blue hat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Facilitator, session leader’s role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Choreography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open, sequence, close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Focus: what should we be thinking about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Asking the right questions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Defining &amp; clarifying the problem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Setting the thinking tasks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799320" y="711360"/>
            <a:ext cx="1469880" cy="1047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2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Open with the blue hat…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2130120"/>
            <a:ext cx="720252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Why we are here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what we are thinking about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definition of the situation or problem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alternative definition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what we want to achieve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where we want to end up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the background to the thinking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a plan for the sequence of hat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2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…</a:t>
            </a: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and close with the blue hat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2692080"/>
            <a:ext cx="7202520" cy="26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What we have achieved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Outcome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Conclusion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Design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Solution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Next step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2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White Hat Thinking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738080"/>
            <a:ext cx="7202520" cy="38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Neutral, objective information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Facts &amp; figures 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Questions: what do we know, what don’t we know, what do we need to know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Excludes opinions, hunches, judgement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Removes feelings &amp; impression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Two tiers of fact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911160" indent="-33012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Believed Facts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lvl="1" marL="911160" indent="-33012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Checked Facts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981840" y="708120"/>
            <a:ext cx="1469880" cy="1047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2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Red Hat Thinking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7202520" cy="222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Emotions &amp; feeling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Hunches, intuitions, impression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Doesn’t have to be logical or consistent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No justifications, reasons or basi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All decisions are emotional in the end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94360" y="663480"/>
            <a:ext cx="1470240" cy="1047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2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Yellow Hat Thinking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7202520" cy="222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Positive &amp; speculative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Positive thinking, optimism, opportunity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Benefit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Best-case scenario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Exploration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8520" y="760320"/>
            <a:ext cx="1470240" cy="1047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2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Green Hat Thinking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7202520" cy="222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New ideas, concepts, perception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Deliberate creation of new idea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Alternatives and more alternative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New approaches to problem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466560" indent="-46656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Creative &amp; lateral thinking 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121520" y="852480"/>
            <a:ext cx="1469880" cy="1047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2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334800"/>
            <a:ext cx="727704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Black Hat Thinking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72025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205200" indent="-20520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Cautious and careful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205200" indent="-20520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Logical negative – why it won’t work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205200" indent="-20520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Critical judgement, pessimistic view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205200" indent="-20520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Separates logical negative from emotional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205200" indent="-20520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Focus on errors, evidence, conclusion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205200" indent="-20520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Logical &amp; truthful, but not necessarily fair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989760" y="754200"/>
            <a:ext cx="1469880" cy="1047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2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Goals of this program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72025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Define parallel thinking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Identify each of the six hat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Learn how to ask a good question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Apply six hats method to problem solving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2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Six hats summary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2570040"/>
            <a:ext cx="1279440" cy="912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927000"/>
            <a:ext cx="1279440" cy="912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0" y="3390840"/>
            <a:ext cx="1279440" cy="912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0" y="4211640"/>
            <a:ext cx="1279440" cy="912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0" y="1749600"/>
            <a:ext cx="1279440" cy="912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0" y="5032440"/>
            <a:ext cx="1279440" cy="912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171440" y="1198440"/>
            <a:ext cx="720252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Blue: control &amp; organization of thinki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White: objective facts &amp; figur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Red: emotions &amp; feeling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Yellow: hope, positive &amp; speculativ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Green: creativity, ideas &amp; lateral thinki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Black: cautious &amp; care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2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Asking the right question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720252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We can’t get the right answer </a:t>
            </a:r>
            <a:br>
              <a:rPr sz="2400"/>
            </a:b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if we ask the wrong question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Crucial blue hat skill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One technique: five why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62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65120" y="1216080"/>
            <a:ext cx="7203960" cy="4448160"/>
          </a:xfrm>
          <a:prstGeom prst="rect">
            <a:avLst/>
          </a:prstGeom>
          <a:solidFill>
            <a:srgbClr val="7a9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73120" y="1943280"/>
            <a:ext cx="7670880" cy="1473120"/>
          </a:xfrm>
          <a:prstGeom prst="rect">
            <a:avLst/>
          </a:prstGeom>
          <a:solidFill>
            <a:srgbClr val="618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6375240"/>
            <a:ext cx="7696080" cy="0"/>
          </a:xfrm>
          <a:prstGeom prst="line">
            <a:avLst/>
          </a:prstGeom>
          <a:ln w="38160">
            <a:solidFill>
              <a:srgbClr val="005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36840" y="229140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Creative Problem Solving 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6400800"/>
            <a:ext cx="3484440" cy="457200"/>
          </a:xfrm>
          <a:prstGeom prst="rect">
            <a:avLst/>
          </a:prstGeom>
          <a:solidFill>
            <a:srgbClr val="c06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l Reali • CyberSkills, Inc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93560" y="3174840"/>
            <a:ext cx="1470240" cy="1047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463760" y="3935520"/>
            <a:ext cx="1469880" cy="10476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865600" y="3935520"/>
            <a:ext cx="1469880" cy="1047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4683240" y="4662360"/>
            <a:ext cx="1469880" cy="1047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5661000" y="5391000"/>
            <a:ext cx="1469880" cy="10479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6659640" y="3929040"/>
            <a:ext cx="1469880" cy="1047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2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Traditional” CPS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2692080"/>
            <a:ext cx="7202520" cy="26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Mess-finding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Data-finding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Problem-finding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Idea-finding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Solution-finding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Acceptance-finding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2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Common idea-finding methods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2692080"/>
            <a:ext cx="7202520" cy="26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Brainstorming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Mind Map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Free association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Freewriting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Incubation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2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Six hats &amp; problem solving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720252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A more deliberate process than CP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Like CPS, uses creativity (green hat)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Unlike CPS, provides a mechanism for evaluating ideas &amp; making decision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2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36840" y="-37080"/>
            <a:ext cx="72770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d2d"/>
                </a:solidFill>
                <a:latin typeface="Times New Roman"/>
              </a:rPr>
              <a:t>Hypothetical problem solving program using the hats - 1</a:t>
            </a:r>
            <a:endParaRPr b="1" lang="en-US" sz="36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202520" cy="340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Blue hat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Organize the process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Red hat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Emotional issues &amp; feelings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White hat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What do we know, need to know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Yellow hat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Proposals &amp; suggestions; what ifs, why nots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2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7202520" cy="340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Blue hat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Focus on the areas that need new ideas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Green hat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Generate new ideas &amp; concepts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Blue hat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Organize ideas &amp; process for evaluation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White, yellow &amp; green hat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Constructive thinking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536840" y="-37080"/>
            <a:ext cx="72770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d2d"/>
                </a:solidFill>
                <a:latin typeface="Times New Roman"/>
              </a:rPr>
              <a:t>Hypothetical problem solving program using the hats - 2</a:t>
            </a:r>
            <a:endParaRPr b="1" lang="en-US" sz="3600" spc="-1" strike="noStrike">
              <a:solidFill>
                <a:srgbClr val="005d2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2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7202520" cy="41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Yellow hat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Positive assessment of viable alternatives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Black hat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Screening for impossible, unusable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Challenge the alternatives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Yellow &amp; green hat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Overcome objections, correct faults, remove weaknesses, solve problems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Black hat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Further scrutiny; point out risks, dangers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536840" y="-37080"/>
            <a:ext cx="72770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d2d"/>
                </a:solidFill>
                <a:latin typeface="Times New Roman"/>
              </a:rPr>
              <a:t>Hypothetical problem solving program using the hats - 3</a:t>
            </a:r>
            <a:endParaRPr b="1" lang="en-US" sz="3600" spc="-1" strike="noStrike">
              <a:solidFill>
                <a:srgbClr val="005d2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2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7202520" cy="38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Blue hat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Overview of achievements so far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Organize choice of route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Red hat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Express feelings about the choices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Yellow &amp; black hat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Looking for the best alternative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Blue hat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Strategy for implementation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536840" y="-37080"/>
            <a:ext cx="72770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d2d"/>
                </a:solidFill>
                <a:latin typeface="Times New Roman"/>
              </a:rPr>
              <a:t>Hypothetical problem solving program using the hats - 4</a:t>
            </a:r>
            <a:endParaRPr b="1" lang="en-US" sz="3600" spc="-1" strike="noStrike">
              <a:solidFill>
                <a:srgbClr val="005d2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2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What is parallel thinking?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727280"/>
            <a:ext cx="72025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At any moment </a:t>
            </a:r>
            <a:br>
              <a:rPr sz="2400"/>
            </a:b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everyone is looking in the same direction.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3560" y="3174840"/>
            <a:ext cx="1470240" cy="1047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463760" y="3935520"/>
            <a:ext cx="1469880" cy="1047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865600" y="3935520"/>
            <a:ext cx="1469880" cy="1047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683240" y="4662360"/>
            <a:ext cx="1469880" cy="1047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5661000" y="5391000"/>
            <a:ext cx="1469880" cy="1047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6659640" y="3929040"/>
            <a:ext cx="1469880" cy="1047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2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Want to learn more? 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44520"/>
            <a:ext cx="7634160" cy="28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Workshops by Paul Reali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CyberSkills, Inc.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336.774.1411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www.cyberskills.com or www.omniskills.com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preali@cyberskills.com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acf86"/>
                </a:solidFill>
                <a:latin typeface="Verdana"/>
              </a:rPr>
              <a:t>Lateral Thinking</a:t>
            </a: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cacf86"/>
                </a:solidFill>
                <a:latin typeface="Verdana"/>
              </a:rPr>
              <a:t>deBono’s Thinking Course</a:t>
            </a: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, and other books by Edward deBono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865160" y="5105520"/>
            <a:ext cx="1470240" cy="1047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902040" y="4570560"/>
            <a:ext cx="1470240" cy="10476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745160" y="5180040"/>
            <a:ext cx="1469880" cy="10476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5877000" y="5018040"/>
            <a:ext cx="1469880" cy="10479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7674120" y="5315040"/>
            <a:ext cx="1469880" cy="10476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7269120" y="4564080"/>
            <a:ext cx="1470240" cy="1047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2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So the six hats are…?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7202520" cy="211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Six colors of hats for six types of thinking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Each hat identifies a type of thinking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Hats are directions of thinking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Hats help a group use parallel thinking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You can “put on” and “take off” a hat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2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Uses for Six Hats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2692080"/>
            <a:ext cx="72025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Problem solving 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Strategic planning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Running meeting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Much more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2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Six colors…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7202520" cy="266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White: neutral, objective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Red: emotional, angry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Black: serious, somber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Yellow: sunny, positive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Green: growth, fertility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Blue: cool, sky above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2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…</a:t>
            </a: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and six hats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692440"/>
            <a:ext cx="7202520" cy="266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White: objective facts &amp; figure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Red: emotions &amp; feeling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Black: cautious &amp; careful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Yellow: hope, positive &amp; speculative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Green: creativity, ideas &amp; lateral thinking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Blue: control &amp; organization of thinking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2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General hat issues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72760"/>
            <a:ext cx="7202520" cy="42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Direction, not description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Set out to think in a certain direction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Let’s have some black hat thinking…”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Not categories of people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Not: “He’s a black hat thinker.”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Everyone can and should use all the hats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A constructive form of showing off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Show off by being a better thinker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5d2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cf86"/>
                </a:solidFill>
                <a:latin typeface="Verdana"/>
              </a:rPr>
              <a:t>Not destructive right vs. wrong argument</a:t>
            </a:r>
            <a:endParaRPr b="0" lang="en-US" sz="22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Use in whole or in part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2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36840" y="334080"/>
            <a:ext cx="7277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Benefits of Six Thinking Hats</a:t>
            </a:r>
            <a:r>
              <a:rPr b="1" lang="en-US" sz="4000" spc="-1" strike="noStrike">
                <a:solidFill>
                  <a:srgbClr val="005d2d"/>
                </a:solidFill>
                <a:latin typeface="Times New Roman"/>
              </a:rPr>
              <a:t>	</a:t>
            </a:r>
            <a:endParaRPr b="1" lang="en-US" sz="4000" spc="-1" strike="noStrike">
              <a:solidFill>
                <a:srgbClr val="005d2d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727280"/>
            <a:ext cx="7202520" cy="39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Provides a common language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Experience &amp; intelligence of each person (Diversity of thought)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Use more of our brain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Helps people work against type, preference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Removal of ego (reduce confrontation)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Save time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Focus (one thing at a time)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5d2d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cf86"/>
                </a:solidFill>
                <a:latin typeface="Verdana"/>
              </a:rPr>
              <a:t>Create, evaluate &amp; implement action plans</a:t>
            </a:r>
            <a:endParaRPr b="0" lang="en-US" sz="2400" spc="-1" strike="noStrike">
              <a:solidFill>
                <a:srgbClr val="cacf86"/>
              </a:solidFill>
              <a:latin typeface="Verdan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7T21:31:07Z</dcterms:created>
  <dc:creator>Gary Dichtenberg</dc:creator>
  <dc:description/>
  <dc:language>en-US</dc:language>
  <cp:lastModifiedBy>user</cp:lastModifiedBy>
  <dcterms:modified xsi:type="dcterms:W3CDTF">2004-02-22T18:31:37Z</dcterms:modified>
  <cp:revision>177</cp:revision>
  <dc:subject/>
  <dc:title>Six Thinking Hat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27322067</vt:r8>
  </property>
  <property fmtid="{D5CDD505-2E9C-101B-9397-08002B2CF9AE}" pid="3" name="_AuthorEmail">
    <vt:lpwstr>develop@charter.net</vt:lpwstr>
  </property>
  <property fmtid="{D5CDD505-2E9C-101B-9397-08002B2CF9AE}" pid="4" name="_AuthorEmailDisplayName">
    <vt:lpwstr>Gary Dichtenberg</vt:lpwstr>
  </property>
  <property fmtid="{D5CDD505-2E9C-101B-9397-08002B2CF9AE}" pid="5" name="_EmailSubject">
    <vt:lpwstr>Training Programs</vt:lpwstr>
  </property>
</Properties>
</file>